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6.png" ContentType="image/png"/>
  <Override PartName="/ppt/media/image25.jpeg" ContentType="image/jpeg"/>
  <Override PartName="/ppt/media/image3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38.jpeg" ContentType="image/jpeg"/>
  <Override PartName="/ppt/media/image9.png" ContentType="image/png"/>
  <Override PartName="/ppt/media/image39.png" ContentType="image/png"/>
  <Override PartName="/ppt/media/image30.jpeg" ContentType="image/jpeg"/>
  <Override PartName="/ppt/media/image31.jpeg" ContentType="image/jpeg"/>
  <Override PartName="/ppt/media/image8.png" ContentType="image/png"/>
  <Override PartName="/ppt/media/image41.wmf" ContentType="image/x-wmf"/>
  <Override PartName="/ppt/media/image42.png" ContentType="image/png"/>
  <Override PartName="/ppt/media/image23.jpeg" ContentType="image/jpeg"/>
  <Override PartName="/ppt/media/image43.wmf" ContentType="image/x-wmf"/>
  <Override PartName="/ppt/media/image34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27.jpeg" ContentType="image/jpeg"/>
  <Override PartName="/ppt/media/image10.png" ContentType="image/png"/>
  <Override PartName="/ppt/media/image35.jpeg" ContentType="image/jpeg"/>
  <Override PartName="/ppt/media/image4.wmf" ContentType="image/x-wmf"/>
  <Override PartName="/ppt/media/image40.jpeg" ContentType="image/jpeg"/>
  <Override PartName="/ppt/media/image13.jpeg" ContentType="image/jpeg"/>
  <Override PartName="/ppt/media/image44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F33D-B0B1-4FBC-8442-D7B309508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284C-C1BF-471F-81EE-D37522195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F56A-D066-40BA-8286-2252D976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B7FA-E004-4D83-BF4B-DA3EE62BE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79B-700E-4B9A-AB1B-01EFF2406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126F-B172-4B88-935A-713B23ED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670F-A357-4B76-8CC7-E2DD8E0F1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4A92-FB3E-480A-A2CA-47D82D35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6AC3-0D25-4CF0-803F-21FC69F84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A089-78D8-4DA9-A1D8-FD6B00483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4D36-A661-42CF-863B-2669A705A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F40-394C-4C57-A083-E53EDC41E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A772-7D6A-45DE-BB4E-66A438E4D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DB75-D0E3-4EAC-9A7C-DC59F76A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9A5E-210D-4257-878C-150EB9000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930B-4D40-4755-BF72-06C15113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73E7-8E2E-4984-950B-76E99DF6C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AB68-CA56-46B7-A539-06B4C12FE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D10E-436B-41A6-B2AE-76174BDA1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7749-D7FC-4D2B-B14D-9FE01EE01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20B6-CB40-43C4-A549-599D94957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56D2-590B-481D-94AC-3F0A62AB8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EA8F-57CA-4511-AB30-0E209536C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63D1-E643-4DDC-B9FC-1C2B6A1C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59B4-0F08-47E3-B6A7-46A7FF881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E4A6-55EF-42FC-ADEF-B459EE550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6E8F-422E-4AD1-9E3B-7493497E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FFB2-ABEE-4A73-B822-B9BA68B40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7B1-C87C-4E41-9E44-2B4E5C12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E34-9A53-4C49-8AD5-18226B26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EFE-0726-42EE-9F7C-A1B71DC6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4C8-617E-4E36-A135-5603B30E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411-BE89-4421-8781-DD158803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6A9-4173-4713-B45F-45298A93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C19-2874-4ED1-B6AD-6AE3B9C5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56A-767D-4929-9C53-273A9315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923-D42B-4837-8783-D3B9CBD1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75E-9226-47E7-A4E9-DB210AEE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604-889C-49D9-BF47-F50C8A91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A69-CA5D-457B-8768-C0947EC7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8637-8E2C-4FE1-8030-DDCF7C7B0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ssibket.blogspot.com/" TargetMode="External"/><Relationship Id="rId2" Type="http://schemas.openxmlformats.org/officeDocument/2006/relationships/hyperlink" Target="http://www.missibket.wikispaces.com/" TargetMode="External"/><Relationship Id="rId3" Type="http://schemas.openxmlformats.org/officeDocument/2006/relationships/hyperlink" Target="http://cwarnerket.wikidot.com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streaming.discoveryeducation.com/index.cf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index.cfm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index.cfm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instein1.wp3.wmv/" TargetMode="External"/><Relationship Id="rId2" Type="http://schemas.openxmlformats.org/officeDocument/2006/relationships/hyperlink" Target="http://Einstein1.wp3.wmv/" TargetMode="External"/><Relationship Id="rId3" Type="http://schemas.openxmlformats.org/officeDocument/2006/relationships/slide" Target="slide20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24.xml"/><Relationship Id="rId8" Type="http://schemas.openxmlformats.org/officeDocument/2006/relationships/slide" Target="slide19.xml"/><Relationship Id="rId9" Type="http://schemas.openxmlformats.org/officeDocument/2006/relationships/slide" Target="slide25.xml"/><Relationship Id="rId10" Type="http://schemas.openxmlformats.org/officeDocument/2006/relationships/slide" Target=""/><Relationship Id="rId11" Type="http://schemas.openxmlformats.org/officeDocument/2006/relationships/hyperlink" Target="http://www.voki.com/" TargetMode="External"/><Relationship Id="rId12" Type="http://schemas.openxmlformats.org/officeDocument/2006/relationships/slide" Target="slide32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lmooreketresources.wikispaces.com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ket.org/trips/forest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hyperlink" Target="file:///Inspiration%20owl%20web/Bats__The_Only_True_Flying_Mammals.asf" TargetMode="Externa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34.png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hyperlink" Target="http://www.ket.org/artstoolkit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l.ket.org/physicslabs/labs/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25780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vironmental Education Resources at Your Fingertips Through KE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2209680"/>
            <a:ext cx="891540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askerville Old Face"/>
              </a:rPr>
              <a:t>Two 15-minute programs – one for grades 3-5 , one for Grades 6-8.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askerville Old Face"/>
              </a:rPr>
              <a:t>The programs contai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Virtual visit to a watershed, showing Kentucky rivers flowing into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  larger basins and ultimately, the Gulf of Mexico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Specific Kentucky geography including urban and rural settings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  mountains, rivers and streams, karst, sinkholes, and wetlands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Illustrates the most common forms of nonpoint (nps) sourc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 pollution and what can be done to help eliminat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 some of its forms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8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610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T’s  Flexible Multi-media Instructional Resour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28195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multi-media learning objects that can be integrated in myriad w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ddress 2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entury Learning styles of  today’s “Digital Nativ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opportunities to addres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gital Citizenship related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239240" cy="1501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MCj04316420000[1]"/>
          <p:cNvPicPr/>
          <p:nvPr/>
        </p:nvPicPr>
        <p:blipFill>
          <a:blip r:embed="rId2"/>
          <a:stretch/>
        </p:blipFill>
        <p:spPr>
          <a:xfrm>
            <a:off x="7010280" y="43434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Coming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d site administration and user-friendly reporting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KET EncycloMedia Integration Si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838080" y="85716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issi Baker’s sites: 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838080" y="200664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Action Button: Custom 9">
            <a:hlinkClick r:id="rId1"/>
          </p:cNvPr>
          <p:cNvSpPr/>
          <p:nvPr/>
        </p:nvSpPr>
        <p:spPr>
          <a:xfrm>
            <a:off x="762120" y="1981080"/>
            <a:ext cx="5638680" cy="685800"/>
          </a:xfrm>
          <a:custGeom>
            <a:avLst/>
            <a:gdLst>
              <a:gd name="textAreaLeft" fmla="*/ 44280 w 5638680"/>
              <a:gd name="textAreaRight" fmla="*/ 5594400 w 5638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7514" h="21600">
                <a:moveTo>
                  <a:pt x="0" y="0"/>
                </a:moveTo>
                <a:lnTo>
                  <a:pt x="177514" y="0"/>
                </a:lnTo>
                <a:lnTo>
                  <a:pt x="177514" y="21600"/>
                </a:lnTo>
                <a:lnTo>
                  <a:pt x="0" y="21600"/>
                </a:lnTo>
                <a:close/>
              </a:path>
              <a:path fill="lightenLess" w="177514" h="21600">
                <a:moveTo>
                  <a:pt x="0" y="0"/>
                </a:moveTo>
                <a:lnTo>
                  <a:pt x="177514" y="0"/>
                </a:lnTo>
                <a:lnTo>
                  <a:pt x="176114" y="1400"/>
                </a:lnTo>
                <a:lnTo>
                  <a:pt x="1400" y="1400"/>
                </a:lnTo>
                <a:close/>
              </a:path>
              <a:path fill="darken" w="177514" h="21600">
                <a:moveTo>
                  <a:pt x="177514" y="0"/>
                </a:moveTo>
                <a:lnTo>
                  <a:pt x="177514" y="21600"/>
                </a:lnTo>
                <a:lnTo>
                  <a:pt x="176114" y="20200"/>
                </a:lnTo>
                <a:lnTo>
                  <a:pt x="176114" y="1400"/>
                </a:lnTo>
                <a:close/>
              </a:path>
              <a:path fill="darkenLess" w="177514" h="21600">
                <a:moveTo>
                  <a:pt x="177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114" y="20200"/>
                </a:lnTo>
                <a:close/>
              </a:path>
              <a:path fill="lighten" w="177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7" name="Action Button: Custom 10">
            <a:hlinkClick r:id="rId2"/>
          </p:cNvPr>
          <p:cNvSpPr/>
          <p:nvPr/>
        </p:nvSpPr>
        <p:spPr>
          <a:xfrm>
            <a:off x="1447920" y="2743200"/>
            <a:ext cx="5410080" cy="914400"/>
          </a:xfrm>
          <a:custGeom>
            <a:avLst/>
            <a:gdLst>
              <a:gd name="textAreaLeft" fmla="*/ 59040 w 5410080"/>
              <a:gd name="textAreaRight" fmla="*/ 5351040 w 5410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7755" h="21600">
                <a:moveTo>
                  <a:pt x="0" y="0"/>
                </a:moveTo>
                <a:lnTo>
                  <a:pt x="127755" y="0"/>
                </a:lnTo>
                <a:lnTo>
                  <a:pt x="127755" y="21600"/>
                </a:lnTo>
                <a:lnTo>
                  <a:pt x="0" y="21600"/>
                </a:lnTo>
                <a:close/>
              </a:path>
              <a:path fill="lightenLess" w="127755" h="21600">
                <a:moveTo>
                  <a:pt x="0" y="0"/>
                </a:moveTo>
                <a:lnTo>
                  <a:pt x="127755" y="0"/>
                </a:lnTo>
                <a:lnTo>
                  <a:pt x="126355" y="1400"/>
                </a:lnTo>
                <a:lnTo>
                  <a:pt x="1400" y="1400"/>
                </a:lnTo>
                <a:close/>
              </a:path>
              <a:path fill="darken" w="127755" h="21600">
                <a:moveTo>
                  <a:pt x="127755" y="0"/>
                </a:moveTo>
                <a:lnTo>
                  <a:pt x="127755" y="21600"/>
                </a:lnTo>
                <a:lnTo>
                  <a:pt x="126355" y="20200"/>
                </a:lnTo>
                <a:lnTo>
                  <a:pt x="126355" y="1400"/>
                </a:lnTo>
                <a:close/>
              </a:path>
              <a:path fill="darkenLess" w="127755" h="21600">
                <a:moveTo>
                  <a:pt x="127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355" y="20200"/>
                </a:lnTo>
                <a:close/>
              </a:path>
              <a:path fill="lighten" w="127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838080" y="2743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ynthia Warner’s Wikki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9" name="Action Button: Custom 13">
            <a:hlinkClick r:id="rId3"/>
          </p:cNvPr>
          <p:cNvSpPr/>
          <p:nvPr/>
        </p:nvSpPr>
        <p:spPr>
          <a:xfrm>
            <a:off x="685800" y="2819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0" name="Picture 19" descr="C:\Documents and Settings\lmoore\Local Settings\Temporary Internet Files\Content.IE5\2MW80HCS\MPj04393500000[1].jpg"/>
          <p:cNvPicPr/>
          <p:nvPr/>
        </p:nvPicPr>
        <p:blipFill>
          <a:blip r:embed="rId4"/>
          <a:stretch/>
        </p:blipFill>
        <p:spPr>
          <a:xfrm>
            <a:off x="6781680" y="2362320"/>
            <a:ext cx="2084400" cy="2209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838080" y="412272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y WikiSpaces Address: http://lmooreketresources.wikispaces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Explore this Exciting Service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AutoShape 6">
            <a:hlinkClick r:id="rId2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6019920" y="2743200"/>
            <a:ext cx="457200" cy="7621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209680" y="2449440"/>
            <a:ext cx="388620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for link to sign-in page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Action Button: Forward or Next 6"/>
          <p:cNvSpPr/>
          <p:nvPr/>
        </p:nvSpPr>
        <p:spPr>
          <a:xfrm>
            <a:off x="82296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w Sign In Pag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AutoShape 6">
            <a:hlinkClick r:id="rId1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304920" y="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on Discovery Education Streamin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2" name="AutoShape 6">
            <a:hlinkClick r:id="rId1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Organization Chart 3"/>
          <p:cNvGrpSpPr/>
          <p:nvPr/>
        </p:nvGrpSpPr>
        <p:grpSpPr>
          <a:xfrm>
            <a:off x="1752480" y="1523880"/>
            <a:ext cx="5562360" cy="2944440"/>
            <a:chOff x="1752480" y="1523880"/>
            <a:chExt cx="5562360" cy="2944440"/>
          </a:xfrm>
        </p:grpSpPr>
        <p:cxnSp>
          <p:nvCxnSpPr>
            <p:cNvPr id="135" name="_s1028"/>
            <p:cNvCxnSpPr>
              <a:stCxn id="136" idx="0"/>
              <a:endCxn id="137" idx="3"/>
            </p:cNvCxnSpPr>
            <p:nvPr/>
          </p:nvCxnSpPr>
          <p:spPr>
            <a:xfrm rot="10800000">
              <a:off x="4533840" y="2260080"/>
              <a:ext cx="39744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29"/>
            <p:cNvCxnSpPr>
              <a:stCxn id="139" idx="0"/>
              <a:endCxn id="137" idx="2"/>
            </p:cNvCxnSpPr>
            <p:nvPr/>
          </p:nvCxnSpPr>
          <p:spPr>
            <a:xfrm flipV="1">
              <a:off x="4137120" y="2260080"/>
              <a:ext cx="39780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0"/>
            <p:cNvCxnSpPr>
              <a:stCxn id="141" idx="0"/>
              <a:endCxn id="137" idx="1"/>
            </p:cNvCxnSpPr>
            <p:nvPr/>
          </p:nvCxnSpPr>
          <p:spPr>
            <a:xfrm flipV="1" rot="16200000">
              <a:off x="4494240" y="2300040"/>
              <a:ext cx="1473120" cy="139320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_s1031"/>
            <p:cNvCxnSpPr>
              <a:stCxn id="143" idx="0"/>
              <a:endCxn id="137" idx="0"/>
            </p:cNvCxnSpPr>
            <p:nvPr/>
          </p:nvCxnSpPr>
          <p:spPr>
            <a:xfrm flipH="1" flipV="1" rot="5400000">
              <a:off x="3102480" y="2301120"/>
              <a:ext cx="1473120" cy="139176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_s1032"/>
            <p:cNvSpPr/>
            <p:nvPr/>
          </p:nvSpPr>
          <p:spPr>
            <a:xfrm>
              <a:off x="3341880" y="1523880"/>
              <a:ext cx="2385360" cy="736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PowerPoint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3" name="_s1033"/>
            <p:cNvSpPr/>
            <p:nvPr/>
          </p:nvSpPr>
          <p:spPr>
            <a:xfrm>
              <a:off x="194940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Inspiration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1" name="_s1034"/>
            <p:cNvSpPr/>
            <p:nvPr/>
          </p:nvSpPr>
          <p:spPr>
            <a:xfrm>
              <a:off x="473292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Word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1752480" y="2629080"/>
              <a:ext cx="238500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hiteboard, 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Smartboard e.g.)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>
              <a:off x="4931280" y="2629080"/>
              <a:ext cx="238356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ovieMaker/iMovie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 flipV="1">
              <a:off x="5866920" y="446688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EncycloMedia Resources with a variety of software and technology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0"/>
          <p:cNvSpPr/>
          <p:nvPr/>
        </p:nvSpPr>
        <p:spPr>
          <a:xfrm>
            <a:off x="1905120" y="48769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2057400" y="5181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8" name="Action Button: Custom 11">
            <a:hlinkClick r:id="rId4" action="ppaction://hlinksldjump"/>
          </p:cNvPr>
          <p:cNvSpPr/>
          <p:nvPr/>
        </p:nvSpPr>
        <p:spPr>
          <a:xfrm>
            <a:off x="3352680" y="16002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Action Button: Custom 12">
            <a:hlinkClick r:id="rId5" action="ppaction://hlinksldjump"/>
          </p:cNvPr>
          <p:cNvSpPr/>
          <p:nvPr/>
        </p:nvSpPr>
        <p:spPr>
          <a:xfrm>
            <a:off x="1752480" y="266688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Action Button: Custom 13">
            <a:hlinkClick r:id="rId6" action="ppaction://hlinksldjump"/>
          </p:cNvPr>
          <p:cNvSpPr/>
          <p:nvPr/>
        </p:nvSpPr>
        <p:spPr>
          <a:xfrm>
            <a:off x="4952880" y="25909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ction Button: Custom 14">
            <a:hlinkClick r:id="rId7" action="ppaction://hlinksldjump"/>
          </p:cNvPr>
          <p:cNvSpPr/>
          <p:nvPr/>
        </p:nvSpPr>
        <p:spPr>
          <a:xfrm>
            <a:off x="1981080" y="3809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Action Button: Custom 15">
            <a:hlinkClick r:id="rId8" action="ppaction://hlinksldjump"/>
          </p:cNvPr>
          <p:cNvSpPr/>
          <p:nvPr/>
        </p:nvSpPr>
        <p:spPr>
          <a:xfrm>
            <a:off x="4724280" y="3733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Action Button: Custom 17">
            <a:hlinkClick r:id="rId9" action="ppaction://hlinksldjump"/>
          </p:cNvPr>
          <p:cNvSpPr/>
          <p:nvPr/>
        </p:nvSpPr>
        <p:spPr>
          <a:xfrm>
            <a:off x="1981080" y="49528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472428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49528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6" name="Action Button: Custom 20">
            <a:hlinkClick r:id="rId10" action="ppaction://hlinksldjump"/>
          </p:cNvPr>
          <p:cNvSpPr/>
          <p:nvPr/>
        </p:nvSpPr>
        <p:spPr>
          <a:xfrm>
            <a:off x="480060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Straight Connector 22"/>
          <p:cNvSpPr/>
          <p:nvPr/>
        </p:nvSpPr>
        <p:spPr>
          <a:xfrm>
            <a:off x="3124080" y="4724280"/>
            <a:ext cx="2819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Straight Connector 29"/>
          <p:cNvSpPr/>
          <p:nvPr/>
        </p:nvSpPr>
        <p:spPr>
          <a:xfrm flipV="1">
            <a:off x="4572000" y="3583080"/>
            <a:ext cx="0" cy="11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Straight Connector 32"/>
          <p:cNvSpPr/>
          <p:nvPr/>
        </p:nvSpPr>
        <p:spPr>
          <a:xfrm flipH="1">
            <a:off x="3122280" y="4724280"/>
            <a:ext cx="32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Straight Connector 33"/>
          <p:cNvSpPr/>
          <p:nvPr/>
        </p:nvSpPr>
        <p:spPr>
          <a:xfrm flipH="1">
            <a:off x="5943600" y="472428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Rectangle 23">
            <a:hlinkClick r:id="rId11"/>
          </p:cNvPr>
          <p:cNvSpPr/>
          <p:nvPr/>
        </p:nvSpPr>
        <p:spPr>
          <a:xfrm>
            <a:off x="1905120" y="5791320"/>
            <a:ext cx="23619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Straight Connector 27"/>
          <p:cNvSpPr/>
          <p:nvPr/>
        </p:nvSpPr>
        <p:spPr>
          <a:xfrm flipH="1">
            <a:off x="4572000" y="3659040"/>
            <a:ext cx="1440" cy="24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4800600" y="579132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Straight Connector 28"/>
          <p:cNvSpPr/>
          <p:nvPr/>
        </p:nvSpPr>
        <p:spPr>
          <a:xfrm>
            <a:off x="4267080" y="6134040"/>
            <a:ext cx="533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TextBox 30"/>
          <p:cNvSpPr/>
          <p:nvPr/>
        </p:nvSpPr>
        <p:spPr>
          <a:xfrm>
            <a:off x="49528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ignment and Quiz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Rectangle 41"/>
          <p:cNvSpPr/>
          <p:nvPr/>
        </p:nvSpPr>
        <p:spPr>
          <a:xfrm>
            <a:off x="1981080" y="5867280"/>
            <a:ext cx="2210040" cy="53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Rectangle 42"/>
          <p:cNvSpPr/>
          <p:nvPr/>
        </p:nvSpPr>
        <p:spPr>
          <a:xfrm>
            <a:off x="4876920" y="5867280"/>
            <a:ext cx="2133360" cy="609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TextBox 26"/>
          <p:cNvSpPr/>
          <p:nvPr/>
        </p:nvSpPr>
        <p:spPr>
          <a:xfrm>
            <a:off x="19810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gleEar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Action Button: Custom 31">
            <a:hlinkClick r:id="rId12" action="ppaction://hlinksldjump"/>
          </p:cNvPr>
          <p:cNvSpPr/>
          <p:nvPr/>
        </p:nvSpPr>
        <p:spPr>
          <a:xfrm>
            <a:off x="1981080" y="58672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rId1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2" name="imgMain" descr="D9C38901-F45C-DCBE-F7801D547AAAF4AC"/>
          <p:cNvPicPr/>
          <p:nvPr/>
        </p:nvPicPr>
        <p:blipFill>
          <a:blip r:embed="rId2"/>
          <a:stretch/>
        </p:blipFill>
        <p:spPr>
          <a:xfrm>
            <a:off x="228600" y="1447920"/>
            <a:ext cx="4084560" cy="2743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533520" y="4292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Butterfly Quiz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4" name="Picture 7" descr="pengins.jpg"/>
          <p:cNvPicPr/>
          <p:nvPr/>
        </p:nvPicPr>
        <p:blipFill>
          <a:blip r:embed="rId3"/>
          <a:stretch/>
        </p:blipFill>
        <p:spPr>
          <a:xfrm>
            <a:off x="4510080" y="1447920"/>
            <a:ext cx="4100400" cy="27684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8"/>
          <p:cNvSpPr/>
          <p:nvPr/>
        </p:nvSpPr>
        <p:spPr>
          <a:xfrm>
            <a:off x="4648320" y="4343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Learning about Penguin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867360" y="4419720"/>
            <a:ext cx="227664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4920" y="51814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WikiSpaces Address: http://lmooreketresources.wikispaces.c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5">
            <a:hlinkClick r:id="rId3"/>
          </p:cNvPr>
          <p:cNvSpPr/>
          <p:nvPr/>
        </p:nvSpPr>
        <p:spPr>
          <a:xfrm>
            <a:off x="304920" y="5029200"/>
            <a:ext cx="6400800" cy="1066680"/>
          </a:xfrm>
          <a:custGeom>
            <a:avLst/>
            <a:gdLst>
              <a:gd name="textAreaLeft" fmla="*/ 69120 w 6400800"/>
              <a:gd name="textAreaRight" fmla="*/ 6331680 w 6400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29578" h="21600">
                <a:moveTo>
                  <a:pt x="0" y="0"/>
                </a:moveTo>
                <a:lnTo>
                  <a:pt x="129578" y="0"/>
                </a:lnTo>
                <a:lnTo>
                  <a:pt x="129578" y="21600"/>
                </a:lnTo>
                <a:lnTo>
                  <a:pt x="0" y="21600"/>
                </a:lnTo>
                <a:close/>
              </a:path>
              <a:path fill="lightenLess" w="129578" h="21600">
                <a:moveTo>
                  <a:pt x="0" y="0"/>
                </a:moveTo>
                <a:lnTo>
                  <a:pt x="129578" y="0"/>
                </a:lnTo>
                <a:lnTo>
                  <a:pt x="128178" y="1400"/>
                </a:lnTo>
                <a:lnTo>
                  <a:pt x="1400" y="1400"/>
                </a:lnTo>
                <a:close/>
              </a:path>
              <a:path fill="darken" w="129578" h="21600">
                <a:moveTo>
                  <a:pt x="129578" y="0"/>
                </a:moveTo>
                <a:lnTo>
                  <a:pt x="129578" y="21600"/>
                </a:lnTo>
                <a:lnTo>
                  <a:pt x="128178" y="20200"/>
                </a:lnTo>
                <a:lnTo>
                  <a:pt x="128178" y="1400"/>
                </a:lnTo>
                <a:close/>
              </a:path>
              <a:path fill="darkenLess" w="129578" h="21600">
                <a:moveTo>
                  <a:pt x="129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78" y="20200"/>
                </a:lnTo>
                <a:close/>
              </a:path>
              <a:path fill="lighten" w="129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6"/>
          <p:cNvSpPr/>
          <p:nvPr/>
        </p:nvSpPr>
        <p:spPr>
          <a:xfrm>
            <a:off x="1981080" y="5867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askerville Old Face"/>
              </a:rPr>
              <a:t>http://www.ket.org/trips/fores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7" name="Action Button: Custom 8">
            <a:hlinkClick r:id="rId1"/>
          </p:cNvPr>
          <p:cNvSpPr/>
          <p:nvPr/>
        </p:nvSpPr>
        <p:spPr>
          <a:xfrm>
            <a:off x="1828800" y="5791320"/>
            <a:ext cx="5410080" cy="685800"/>
          </a:xfrm>
          <a:custGeom>
            <a:avLst/>
            <a:gdLst>
              <a:gd name="textAreaLeft" fmla="*/ 44280 w 5410080"/>
              <a:gd name="textAreaRight" fmla="*/ 5365800 w 5410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0318" h="21600">
                <a:moveTo>
                  <a:pt x="0" y="0"/>
                </a:moveTo>
                <a:lnTo>
                  <a:pt x="170318" y="0"/>
                </a:lnTo>
                <a:lnTo>
                  <a:pt x="170318" y="21600"/>
                </a:lnTo>
                <a:lnTo>
                  <a:pt x="0" y="21600"/>
                </a:lnTo>
                <a:close/>
              </a:path>
              <a:path fill="lightenLess" w="170318" h="21600">
                <a:moveTo>
                  <a:pt x="0" y="0"/>
                </a:moveTo>
                <a:lnTo>
                  <a:pt x="170318" y="0"/>
                </a:lnTo>
                <a:lnTo>
                  <a:pt x="168918" y="1400"/>
                </a:lnTo>
                <a:lnTo>
                  <a:pt x="1400" y="1400"/>
                </a:lnTo>
                <a:close/>
              </a:path>
              <a:path fill="darken" w="170318" h="21600">
                <a:moveTo>
                  <a:pt x="170318" y="0"/>
                </a:moveTo>
                <a:lnTo>
                  <a:pt x="170318" y="21600"/>
                </a:lnTo>
                <a:lnTo>
                  <a:pt x="168918" y="20200"/>
                </a:lnTo>
                <a:lnTo>
                  <a:pt x="168918" y="1400"/>
                </a:lnTo>
                <a:close/>
              </a:path>
              <a:path fill="darkenLess" w="170318" h="21600">
                <a:moveTo>
                  <a:pt x="170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918" y="20200"/>
                </a:lnTo>
                <a:close/>
              </a:path>
              <a:path fill="lighten" w="170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0" y="314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xample Of HyperLinking In Environmental Scien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9" name="Picture 9" descr="cows.jpg"/>
          <p:cNvPicPr/>
          <p:nvPr/>
        </p:nvPicPr>
        <p:blipFill>
          <a:blip r:embed="rId2"/>
          <a:stretch/>
        </p:blipFill>
        <p:spPr>
          <a:xfrm>
            <a:off x="304920" y="1295280"/>
            <a:ext cx="3809880" cy="30038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0"/>
          <p:cNvSpPr/>
          <p:nvPr/>
        </p:nvSpPr>
        <p:spPr>
          <a:xfrm>
            <a:off x="304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thBusters Young Scientist’s Challeng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1" name="Picture 13" descr="niche.jpg"/>
          <p:cNvPicPr/>
          <p:nvPr/>
        </p:nvPicPr>
        <p:blipFill>
          <a:blip r:embed="rId3"/>
          <a:stretch/>
        </p:blipFill>
        <p:spPr>
          <a:xfrm>
            <a:off x="480060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4663080" y="44956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ches: How Animals Fit Into Ecolog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 a video segment to a designated folder that also contains your Powerpoint, Inspiration, etc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can be a text box, image,clip art, 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drop-down menu, select “hyperlink”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“OK” when finish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5" name="Picture 15" descr="block_exterior.jpg"/>
          <p:cNvPicPr/>
          <p:nvPr/>
        </p:nvPicPr>
        <p:blipFill>
          <a:blip r:embed="rId1"/>
          <a:stretch/>
        </p:blipFill>
        <p:spPr>
          <a:xfrm>
            <a:off x="6781680" y="220968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">
            <a:hlinkClick r:id="rId2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mbedded Video Clip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2388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system Balan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9" name="FoodChains.asf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36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PowerPoi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04920" y="838080"/>
            <a:ext cx="861048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toolbar go to Insert and select “Movies and Sounds”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“Movie from File” and when the “Insert Movie” window opens, browse to find the desired clip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Using the “handles” on the embedded movie screen you can move and resize your cli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2" name="AutoShape 5">
            <a:hlinkClick r:id="rId1" action="ppaction://hlinksldjump"/>
          </p:cNvPr>
          <p:cNvSpPr/>
          <p:nvPr/>
        </p:nvSpPr>
        <p:spPr>
          <a:xfrm>
            <a:off x="838188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EncycloMedia With Inspiratio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00" name="Picture 12" descr=""/>
          <p:cNvPicPr/>
          <p:nvPr/>
        </p:nvPicPr>
        <p:blipFill>
          <a:blip r:embed="rId1"/>
          <a:stretch/>
        </p:blipFill>
        <p:spPr>
          <a:xfrm>
            <a:off x="0" y="961920"/>
            <a:ext cx="9163080" cy="58960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3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AutoShape 14">
            <a:hlinkClick r:id="rId2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AutoShape 15">
            <a:hlinkClick r:id="rId3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4" name="AutoShape 16">
            <a:hlinkClick r:id="rId4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AutoShape 21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AutoShape 5">
            <a:hlinkClick r:id="rId5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EncycloMedia With PhotoStor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1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3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7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9" name="LM sedimentary rock.wmv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5">
            <a:hlinkClick r:id="rId5" action="ppaction://hlinksldjump"/>
          </p:cNvPr>
          <p:cNvSpPr/>
          <p:nvPr/>
        </p:nvSpPr>
        <p:spPr>
          <a:xfrm>
            <a:off x="83059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7301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5456" y="5338"/>
                </a:lnTo>
                <a:lnTo>
                  <a:pt x="5456" y="19351"/>
                </a:lnTo>
                <a:lnTo>
                  <a:pt x="3794" y="193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s Using EncycloMedia Conte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838080" y="56786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 is a short movie created using “MovieMaker” which incorporates Encyclomedia Clips and image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3" name="Picture 7" descr="6152"/>
          <p:cNvPicPr/>
          <p:nvPr/>
        </p:nvPicPr>
        <p:blipFill>
          <a:blip r:embed="rId1"/>
          <a:stretch/>
        </p:blipFill>
        <p:spPr>
          <a:xfrm>
            <a:off x="2057400" y="1447920"/>
            <a:ext cx="4419720" cy="39322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>
            <a:hlinkClick r:id="rId2" action="ppaction://hlinksldjump"/>
          </p:cNvPr>
          <p:cNvSpPr/>
          <p:nvPr/>
        </p:nvSpPr>
        <p:spPr>
          <a:xfrm>
            <a:off x="8305920" y="54100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7301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  <a:path fill="darken" w="21600" h="24704">
                <a:moveTo>
                  <a:pt x="3794" y="5346"/>
                </a:moveTo>
                <a:lnTo>
                  <a:pt x="5456" y="5346"/>
                </a:lnTo>
                <a:lnTo>
                  <a:pt x="5456" y="19359"/>
                </a:lnTo>
                <a:lnTo>
                  <a:pt x="3794" y="193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image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3"/>
          <p:cNvGrpSpPr/>
          <p:nvPr/>
        </p:nvGrpSpPr>
        <p:grpSpPr>
          <a:xfrm>
            <a:off x="4343400" y="4475160"/>
            <a:ext cx="1447200" cy="477360"/>
            <a:chOff x="4343400" y="4475160"/>
            <a:chExt cx="1447200" cy="477360"/>
          </a:xfrm>
        </p:grpSpPr>
        <p:sp>
          <p:nvSpPr>
            <p:cNvPr id="237" name="Text Box 4"/>
            <p:cNvSpPr/>
            <p:nvPr/>
          </p:nvSpPr>
          <p:spPr>
            <a:xfrm>
              <a:off x="4472640" y="4475160"/>
              <a:ext cx="1317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turn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38" name="Picture 5" descr="fileLink"/>
            <p:cNvPicPr/>
            <p:nvPr/>
          </p:nvPicPr>
          <p:blipFill>
            <a:blip r:embed="rId2"/>
            <a:stretch/>
          </p:blipFill>
          <p:spPr>
            <a:xfrm>
              <a:off x="4343400" y="47872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Group 6"/>
          <p:cNvGrpSpPr/>
          <p:nvPr/>
        </p:nvGrpSpPr>
        <p:grpSpPr>
          <a:xfrm>
            <a:off x="6203880" y="3789360"/>
            <a:ext cx="1491840" cy="477360"/>
            <a:chOff x="6203880" y="3789360"/>
            <a:chExt cx="1491840" cy="477360"/>
          </a:xfrm>
        </p:grpSpPr>
        <p:sp>
          <p:nvSpPr>
            <p:cNvPr id="240" name="Text Box 7"/>
            <p:cNvSpPr/>
            <p:nvPr/>
          </p:nvSpPr>
          <p:spPr>
            <a:xfrm>
              <a:off x="6333120" y="3789360"/>
              <a:ext cx="136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upiter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1" name="Picture 8" descr="fileLink(1)"/>
            <p:cNvPicPr/>
            <p:nvPr/>
          </p:nvPicPr>
          <p:blipFill>
            <a:blip r:embed="rId3"/>
            <a:stretch/>
          </p:blipFill>
          <p:spPr>
            <a:xfrm>
              <a:off x="6203880" y="41014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9"/>
          <p:cNvGrpSpPr/>
          <p:nvPr/>
        </p:nvGrpSpPr>
        <p:grpSpPr>
          <a:xfrm>
            <a:off x="2476440" y="1506600"/>
            <a:ext cx="1332720" cy="474120"/>
            <a:chOff x="2476440" y="1506600"/>
            <a:chExt cx="1332720" cy="474120"/>
          </a:xfrm>
        </p:grpSpPr>
        <p:sp>
          <p:nvSpPr>
            <p:cNvPr id="243" name="Text Box 10"/>
            <p:cNvSpPr/>
            <p:nvPr/>
          </p:nvSpPr>
          <p:spPr>
            <a:xfrm>
              <a:off x="2605680" y="1506600"/>
              <a:ext cx="1203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rs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4" name="Picture 11" descr="fileLink(2)"/>
            <p:cNvPicPr/>
            <p:nvPr/>
          </p:nvPicPr>
          <p:blipFill>
            <a:blip r:embed="rId4"/>
            <a:stretch/>
          </p:blipFill>
          <p:spPr>
            <a:xfrm>
              <a:off x="2476440" y="1815840"/>
              <a:ext cx="205560" cy="16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Picture 12" descr="space station"/>
          <p:cNvPicPr/>
          <p:nvPr/>
        </p:nvPicPr>
        <p:blipFill>
          <a:blip r:embed="rId5"/>
          <a:stretch/>
        </p:blipFill>
        <p:spPr>
          <a:xfrm>
            <a:off x="914400" y="2552760"/>
            <a:ext cx="19177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3"/>
          <p:cNvGrpSpPr/>
          <p:nvPr/>
        </p:nvGrpSpPr>
        <p:grpSpPr>
          <a:xfrm>
            <a:off x="838080" y="3370320"/>
            <a:ext cx="1836360" cy="439200"/>
            <a:chOff x="838080" y="3370320"/>
            <a:chExt cx="1836360" cy="439200"/>
          </a:xfrm>
        </p:grpSpPr>
        <p:sp>
          <p:nvSpPr>
            <p:cNvPr id="247" name="Text Box 14"/>
            <p:cNvSpPr/>
            <p:nvPr/>
          </p:nvSpPr>
          <p:spPr>
            <a:xfrm>
              <a:off x="967680" y="3370320"/>
              <a:ext cx="170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pace station.asx</a:t>
              </a:r>
              <a:endParaRPr b="0" lang="en-US" sz="14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8" name="Picture 15" descr="fileLink(3)"/>
            <p:cNvPicPr/>
            <p:nvPr/>
          </p:nvPicPr>
          <p:blipFill>
            <a:blip r:embed="rId6"/>
            <a:stretch/>
          </p:blipFill>
          <p:spPr>
            <a:xfrm>
              <a:off x="838080" y="3644640"/>
              <a:ext cx="20592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Line 16"/>
          <p:cNvSpPr/>
          <p:nvPr/>
        </p:nvSpPr>
        <p:spPr>
          <a:xfrm flipV="1">
            <a:off x="2971800" y="2437920"/>
            <a:ext cx="868320" cy="825480"/>
          </a:xfrm>
          <a:prstGeom prst="line">
            <a:avLst/>
          </a:prstGeom>
          <a:ln w="76320">
            <a:solidFill>
              <a:srgbClr val="ffffe0"/>
            </a:solidFill>
            <a:miter/>
            <a:headEnd len="sm" type="triangle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5638680" y="868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0"/>
                </a:solidFill>
                <a:latin typeface="Arial"/>
              </a:rPr>
              <a:t>Space Exploration and Planets</a:t>
            </a:r>
            <a:r>
              <a:rPr b="1" lang="en-US" sz="1400" spc="-1" strike="noStrike">
                <a:solidFill>
                  <a:srgbClr val="ffffe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KET EncycloMedia with Whiteboard Interfa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5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Educational Services Provided to Kentuck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tructional Videos on the KET ED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65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0666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MCj02167380000[1]"/>
          <p:cNvPicPr/>
          <p:nvPr/>
        </p:nvPicPr>
        <p:blipFill>
          <a:blip r:embed="rId1"/>
          <a:stretch/>
        </p:blipFill>
        <p:spPr>
          <a:xfrm>
            <a:off x="6400800" y="5073480"/>
            <a:ext cx="213372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9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"/>
          <p:cNvPicPr/>
          <p:nvPr/>
        </p:nvPicPr>
        <p:blipFill>
          <a:blip r:embed="rId3"/>
          <a:stretch/>
        </p:blipFill>
        <p:spPr>
          <a:xfrm>
            <a:off x="5638680" y="4343400"/>
            <a:ext cx="3200400" cy="170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6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5"/>
          <a:stretch/>
        </p:blipFill>
        <p:spPr>
          <a:xfrm>
            <a:off x="2225520" y="4343400"/>
            <a:ext cx="31845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"/>
          <p:cNvPicPr/>
          <p:nvPr/>
        </p:nvPicPr>
        <p:blipFill>
          <a:blip r:embed="rId6"/>
          <a:stretch/>
        </p:blipFill>
        <p:spPr>
          <a:xfrm>
            <a:off x="3733920" y="2286000"/>
            <a:ext cx="3330360" cy="1752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632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igned to help teachers plan and implement lessons about nonpoint source wate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a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rad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bjec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ded in part by a grant from the U.S. Environmental Protection Agency under §319(h) of the Clean Water Act. Administered through the KY Divisio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Ravie"/>
              </a:rPr>
              <a:t>The Arts Toolkit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581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 Toolkit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ed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ome_drama"/>
          <p:cNvPicPr/>
          <p:nvPr/>
        </p:nvPicPr>
        <p:blipFill>
          <a:blip r:embed="rId1"/>
          <a:stretch/>
        </p:blipFill>
        <p:spPr>
          <a:xfrm>
            <a:off x="4419720" y="1219320"/>
            <a:ext cx="1962000" cy="130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home_dance"/>
          <p:cNvPicPr/>
          <p:nvPr/>
        </p:nvPicPr>
        <p:blipFill>
          <a:blip r:embed="rId2"/>
          <a:stretch/>
        </p:blipFill>
        <p:spPr>
          <a:xfrm>
            <a:off x="2514600" y="25909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ome_music"/>
          <p:cNvPicPr/>
          <p:nvPr/>
        </p:nvPicPr>
        <p:blipFill>
          <a:blip r:embed="rId3"/>
          <a:stretch/>
        </p:blipFill>
        <p:spPr>
          <a:xfrm>
            <a:off x="2514600" y="5257800"/>
            <a:ext cx="1943280" cy="1305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home_visarts"/>
          <p:cNvPicPr/>
          <p:nvPr/>
        </p:nvPicPr>
        <p:blipFill>
          <a:blip r:embed="rId4"/>
          <a:stretch/>
        </p:blipFill>
        <p:spPr>
          <a:xfrm>
            <a:off x="4495680" y="3962520"/>
            <a:ext cx="1962360" cy="1304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324480" y="13683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 NETA’s Instructional Media Product Award and  Best of the Best Award 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553080" y="4137120"/>
            <a:ext cx="2514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NETA’s Best Instructional Media Product Award 2006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62120" y="4114800"/>
            <a:ext cx="3124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Arts Toolkit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(2005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800600" y="2900520"/>
            <a:ext cx="39625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 Toolkit (2004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Being Revised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952880" y="5486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ic Arts Toolk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07 Now Available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00"/>
                            </p:stCondLst>
                            <p:childTnLst>
                              <p:par>
                                <p:cTn id="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hours of  Video in 3 D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of Dance and Music 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ed binder of Lesson Plans and Information correlated to 4.1 cor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Ide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s Toolkit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>
            <a:hlinkClick r:id="rId1"/>
          </p:cNvPr>
          <p:cNvSpPr/>
          <p:nvPr/>
        </p:nvSpPr>
        <p:spPr>
          <a:xfrm>
            <a:off x="3886200" y="601488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Action Button: Custom 7">
            <a:hlinkClick r:id="rId2"/>
          </p:cNvPr>
          <p:cNvSpPr/>
          <p:nvPr/>
        </p:nvSpPr>
        <p:spPr>
          <a:xfrm>
            <a:off x="1828800" y="228600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0" y="22093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sed Dance Toolkit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now availab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T Distance Learning</a:t>
            </a:r>
            <a:br>
              <a:rPr sz="4000"/>
            </a:br>
            <a:br>
              <a:rPr sz="100"/>
            </a:br>
            <a:r>
              <a:rPr b="1" lang="en-US" sz="100" spc="-1" strike="noStrike">
                <a:solidFill>
                  <a:srgbClr val="ffff00"/>
                </a:solidFill>
                <a:latin typeface="Arial"/>
              </a:rPr>
              <a:t>http:/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19320"/>
            <a:ext cx="8610480" cy="5457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676520" y="6192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ww.dl.ket.org/physicslabs/labs/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92" name="Picture 5" descr="C:\Documents and Settings\lmoore\Local Settings\Temporary Internet Files\Content.IE5\87ZFKFYD\MCj02953610000[1].wmf"/>
          <p:cNvPicPr/>
          <p:nvPr/>
        </p:nvPicPr>
        <p:blipFill>
          <a:blip r:embed="rId3"/>
          <a:stretch/>
        </p:blipFill>
        <p:spPr>
          <a:xfrm>
            <a:off x="7696080" y="0"/>
            <a:ext cx="127476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lmoore\Local Settings\Temporary Internet Files\Content.IE5\87ZFKFYD\MCj02953610000[1].wmf"/>
          <p:cNvPicPr/>
          <p:nvPr/>
        </p:nvPicPr>
        <p:blipFill>
          <a:blip r:embed="rId4"/>
          <a:stretch/>
        </p:blipFill>
        <p:spPr>
          <a:xfrm flipH="1">
            <a:off x="22824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ield Trip to a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lls of the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mmoth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isville Z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6320" y="22860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the field trips produced by KET that have Environmental Science Conten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143000" y="61214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8" name="Action Button: Custom 6">
            <a:hlinkClick r:id="rId3"/>
          </p:cNvPr>
          <p:cNvSpPr/>
          <p:nvPr/>
        </p:nvSpPr>
        <p:spPr>
          <a:xfrm>
            <a:off x="2590920" y="6095880"/>
            <a:ext cx="3733560" cy="533520"/>
          </a:xfrm>
          <a:custGeom>
            <a:avLst/>
            <a:gdLst>
              <a:gd name="textAreaLeft" fmla="*/ 34560 w 3733560"/>
              <a:gd name="textAreaRight" fmla="*/ 3699000 w 3733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69" h="21600">
                <a:moveTo>
                  <a:pt x="0" y="0"/>
                </a:moveTo>
                <a:lnTo>
                  <a:pt x="151069" y="0"/>
                </a:lnTo>
                <a:lnTo>
                  <a:pt x="151069" y="21600"/>
                </a:lnTo>
                <a:lnTo>
                  <a:pt x="0" y="21600"/>
                </a:lnTo>
                <a:close/>
              </a:path>
              <a:path fill="lightenLess" w="151069" h="21600">
                <a:moveTo>
                  <a:pt x="0" y="0"/>
                </a:moveTo>
                <a:lnTo>
                  <a:pt x="151069" y="0"/>
                </a:lnTo>
                <a:lnTo>
                  <a:pt x="149669" y="1400"/>
                </a:lnTo>
                <a:lnTo>
                  <a:pt x="1400" y="1400"/>
                </a:lnTo>
                <a:close/>
              </a:path>
              <a:path fill="darken" w="151069" h="21600">
                <a:moveTo>
                  <a:pt x="151069" y="0"/>
                </a:moveTo>
                <a:lnTo>
                  <a:pt x="151069" y="21600"/>
                </a:lnTo>
                <a:lnTo>
                  <a:pt x="149669" y="20200"/>
                </a:lnTo>
                <a:lnTo>
                  <a:pt x="149669" y="1400"/>
                </a:lnTo>
                <a:close/>
              </a:path>
              <a:path fill="darkenLess" w="151069" h="21600">
                <a:moveTo>
                  <a:pt x="151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69" y="20200"/>
                </a:lnTo>
                <a:close/>
              </a:path>
              <a:path fill="lighten" w="151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8-09-12T02:47:33Z</dcterms:modified>
  <cp:revision>195</cp:revision>
  <dc:subject/>
  <dc:title>Slide 1</dc:title>
</cp:coreProperties>
</file>